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851E-6B13-4AA2-9FAD-187348AFA6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01EA-38CE-4DC3-8962-DFF2FF79E2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BCE29-198A-43FC-852B-61B9A7342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85509-CB20-42C3-B82E-4386EBB63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AA6DB-EE3C-4B00-B483-497B52665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39D29A-E3D5-4D57-BA5D-9C1B3A36D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78BD8-0B49-4310-8259-DC4E86F02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00C7C-9D5B-47F7-A128-AE173F8D5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4D78E-DAB5-4550-8293-18D53F7FC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53246-400C-4A9A-AF54-88ECC6F99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A6A0B-5E19-4D8C-8DA3-E41651D62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C06B-C4CD-40B4-BD53-F1DB73C33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DF85A-EC01-4EEB-BC51-A977CD153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EA19E-A1B0-4723-A667-76B8BE918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7A6C-4048-4903-9157-EE2CC09CEE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2T09:49:45Z</dcterms:modified>
  <cp:revision>26</cp:revision>
  <dc:subject/>
  <dc:title>PowerPoint Presentation</dc:title>
</cp:coreProperties>
</file>