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C29B-D74C-42DF-8616-A78F359BD2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6812-7E91-44A0-928E-9A81FA590B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CCB1F-FF95-416F-AF7D-2041D8BA9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DCCC8-999E-4805-A512-89BB71C53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B3845-7A90-4612-B1FF-40D98E76A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1D96A-57BD-4259-AAE1-67F254B99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E1A60-4038-4FC1-952C-B09950BFB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059C7-7048-4E29-86FD-E0B0555A5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C8C7C-ECD1-477C-8C5F-75500AB94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0CBD0-DB46-4D1A-9071-F5973EF7A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45D6E-CA03-4BDC-BCA1-2EFB89F36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A085F-E443-4CE6-AF51-89F4C1F05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92216-C29B-4457-8235-197FB1BCB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DF001-23F2-44BF-8567-D4B544B17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FDD4-1089-40AC-BCA7-7C19A0D0AD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miles of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Homeowork: 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6T10:49:48Z</dcterms:modified>
  <cp:revision>28</cp:revision>
  <dc:subject/>
  <dc:title>PowerPoint Presentation</dc:title>
</cp:coreProperties>
</file>