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A480-6200-4735-9859-4D343389AE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E2D3-B5F2-4B94-851E-EB0DF62821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8C1B1-B649-4D5C-B623-99B9DC7AF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EC19-D3A7-4496-A356-B798428C3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147D-EB2F-43DD-ADCC-22070CEE2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943AB-7FF5-4B32-8105-682275951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621E-4C88-47C2-832C-5E955EE37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1B0A7-8EB2-4467-8EA7-8BA6D6F38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3906-C553-4673-89DF-61D21DEA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243E-EA22-4615-8FDE-FF6F35839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9D43-A753-4C02-84D8-FE127E975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C095-EDA6-4431-8A40-19A4F7FD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E773-E773-4BAD-B369-97F8AFF0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1610-6CF7-459F-9662-9D5FDD129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0C08-B6A8-44A6-B919-A506B618BB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miles of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Homeowork: 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6T10:49:48Z</dcterms:modified>
  <cp:revision>28</cp:revision>
  <dc:subject/>
  <dc:title>PowerPoint Presentation</dc:title>
</cp:coreProperties>
</file>