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3A46-8483-4650-8E6F-4482E66B76F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ust play through the manchuria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D093-8F28-4329-A90D-80B6B17346B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5288-710F-444F-887B-A7407183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4052-940C-4A69-B4F9-07C69EA8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8006-171E-434E-93C4-71D3277A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06EE-0D87-4866-B5AB-33FC3467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0889-A3CB-4987-9FA1-A88B30A6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38DC-B309-4BB9-B591-C48DF0DB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CE2E-1BBD-4CCA-93B6-C89314B68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60C7-C07C-40FB-A7F4-221685E5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BAAE-77B1-44F9-ADF2-89687513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A6C3-736E-4F5C-809C-E006955C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7A8E-2419-40CD-B5C7-CF679D7E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2F84-9805-4ACB-85FB-42DFDF31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ad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FB3D-8E90-4BDD-AE89-FADD139D036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s://youtu.be/fYGsdC7Sg38" TargetMode="Externa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www.proprofs.com/quiz-school/quizshow.php?title=quiz-on-effects--depression-on-league-nations&amp;q=3&amp;next=y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1"/>
          <p:cNvSpPr/>
          <p:nvPr/>
        </p:nvSpPr>
        <p:spPr>
          <a:xfrm>
            <a:off x="142920" y="217440"/>
            <a:ext cx="8353440" cy="302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Do Now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ill in the blanks to learn why militarism was growing in Jap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Think about the work on the impact of the ‘Depression’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tension- summarise the key information in a short paragraph within your bo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41120" y="3573360"/>
            <a:ext cx="8818560" cy="31420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Key word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conomy- the movement of money (buying and sel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ilitarism- using your military in an aggressive w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flation- the increase of pr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reaties- agreements between coun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nferior- not as good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8"/>
          <p:cNvSpPr/>
          <p:nvPr/>
        </p:nvSpPr>
        <p:spPr>
          <a:xfrm>
            <a:off x="4716360" y="1913040"/>
            <a:ext cx="4067280" cy="3384360"/>
          </a:xfrm>
          <a:prstGeom prst="rect">
            <a:avLst/>
          </a:prstGeom>
          <a:solidFill>
            <a:srgbClr val="eef9f4"/>
          </a:solidFill>
          <a:ln w="255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859280" y="1954080"/>
            <a:ext cx="406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urce 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 know this sounds all wrong, perhaps immoral, when Japan is flouting the League of Nations, but: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1) she was greatly provoked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2) she must ere long expand somewhere - for goodness sake let (or rather encourage) her to do so there instead of Australia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3) her control of Manchuria means a real block against Communist aggres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5" descr="http://www.johndclare.net/images/trample.gif"/>
          <p:cNvPicPr/>
          <p:nvPr/>
        </p:nvPicPr>
        <p:blipFill>
          <a:blip r:embed="rId1"/>
          <a:stretch/>
        </p:blipFill>
        <p:spPr>
          <a:xfrm>
            <a:off x="322200" y="2184480"/>
            <a:ext cx="4249800" cy="311292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179280" y="26028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useful are Sources E and F to a historian studying how well the League of Nations dealt with the Manchurian crisis? (12 mark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"/>
          <p:cNvSpPr/>
          <p:nvPr/>
        </p:nvSpPr>
        <p:spPr>
          <a:xfrm>
            <a:off x="328320" y="190188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urce 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322200" y="5307120"/>
            <a:ext cx="4249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This cartoon of 1933, by the British cartoonist David Low, is entitled: 'The Doormat'.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2"/>
          <p:cNvSpPr/>
          <p:nvPr/>
        </p:nvSpPr>
        <p:spPr>
          <a:xfrm>
            <a:off x="4716360" y="5270400"/>
            <a:ext cx="41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A letter from the Master of Peterhouse, Cambridge University, to his friend John Simon, the British Foreign Secretary (193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img240"/>
          <p:cNvPicPr/>
          <p:nvPr/>
        </p:nvPicPr>
        <p:blipFill>
          <a:blip r:embed="rId1"/>
          <a:stretch/>
        </p:blipFill>
        <p:spPr>
          <a:xfrm>
            <a:off x="257040" y="333360"/>
            <a:ext cx="4602240" cy="631044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5429160" y="386064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Japa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5429160" y="5216400"/>
            <a:ext cx="32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LO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5"/>
          <p:cNvSpPr/>
          <p:nvPr/>
        </p:nvSpPr>
        <p:spPr>
          <a:xfrm>
            <a:off x="5076720" y="189000"/>
            <a:ext cx="3888000" cy="1079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6"/>
          <p:cNvSpPr/>
          <p:nvPr/>
        </p:nvSpPr>
        <p:spPr>
          <a:xfrm>
            <a:off x="5002200" y="1360440"/>
            <a:ext cx="3959280" cy="1131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7"/>
          <p:cNvSpPr/>
          <p:nvPr/>
        </p:nvSpPr>
        <p:spPr>
          <a:xfrm>
            <a:off x="5076720" y="2611440"/>
            <a:ext cx="3811680" cy="107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Straight Arrow Connector 9"/>
          <p:cNvCxnSpPr/>
          <p:nvPr/>
        </p:nvCxnSpPr>
        <p:spPr>
          <a:xfrm flipV="1">
            <a:off x="2558520" y="1956960"/>
            <a:ext cx="2870640" cy="47880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Straight Arrow Connector 10"/>
          <p:cNvCxnSpPr/>
          <p:nvPr/>
        </p:nvCxnSpPr>
        <p:spPr>
          <a:xfrm flipV="1">
            <a:off x="3742920" y="905760"/>
            <a:ext cx="1477080" cy="1436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Straight Arrow Connector 12"/>
          <p:cNvCxnSpPr/>
          <p:nvPr/>
        </p:nvCxnSpPr>
        <p:spPr>
          <a:xfrm flipV="1">
            <a:off x="2516040" y="3212280"/>
            <a:ext cx="2704320" cy="139932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http://s1.thingpic.com/images/n3/2RD2kq3oFy9RXpG9VwSqPcGZ.jpeg"/>
          <p:cNvPicPr/>
          <p:nvPr/>
        </p:nvPicPr>
        <p:blipFill>
          <a:blip r:embed="rId1"/>
          <a:stretch/>
        </p:blipFill>
        <p:spPr>
          <a:xfrm>
            <a:off x="212760" y="66600"/>
            <a:ext cx="5438880" cy="4545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212760" y="4640400"/>
            <a:ext cx="32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Japa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212760" y="5560920"/>
            <a:ext cx="324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hat does it say about LO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5"/>
          <p:cNvSpPr/>
          <p:nvPr/>
        </p:nvSpPr>
        <p:spPr>
          <a:xfrm>
            <a:off x="5200560" y="220680"/>
            <a:ext cx="3889440" cy="1079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6"/>
          <p:cNvSpPr/>
          <p:nvPr/>
        </p:nvSpPr>
        <p:spPr>
          <a:xfrm>
            <a:off x="5002200" y="1360440"/>
            <a:ext cx="3959280" cy="1131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5200560" y="2475000"/>
            <a:ext cx="3811680" cy="107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Straight Arrow Connector 9"/>
          <p:cNvCxnSpPr/>
          <p:nvPr/>
        </p:nvCxnSpPr>
        <p:spPr>
          <a:xfrm flipV="1">
            <a:off x="1402920" y="1956600"/>
            <a:ext cx="4026600" cy="12452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Straight Arrow Connector 10"/>
          <p:cNvCxnSpPr/>
          <p:nvPr/>
        </p:nvCxnSpPr>
        <p:spPr>
          <a:xfrm flipV="1">
            <a:off x="4643280" y="701280"/>
            <a:ext cx="937440" cy="71784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Straight Arrow Connector 12"/>
          <p:cNvCxnSpPr/>
          <p:nvPr/>
        </p:nvCxnSpPr>
        <p:spPr>
          <a:xfrm flipV="1">
            <a:off x="5219280" y="3320640"/>
            <a:ext cx="361080" cy="36432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Straight Arrow Connector 16"/>
          <p:cNvCxnSpPr/>
          <p:nvPr/>
        </p:nvCxnSpPr>
        <p:spPr>
          <a:xfrm flipV="1">
            <a:off x="3997440" y="853560"/>
            <a:ext cx="1735920" cy="199008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250920" y="333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Review and Refl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Up Ribbon 2"/>
          <p:cNvSpPr/>
          <p:nvPr/>
        </p:nvSpPr>
        <p:spPr>
          <a:xfrm>
            <a:off x="250920" y="1015920"/>
            <a:ext cx="4105080" cy="2160720"/>
          </a:xfrm>
          <a:custGeom>
            <a:avLst/>
            <a:gdLst>
              <a:gd name="textAreaLeft" fmla="*/ 1026360 w 4105080"/>
              <a:gd name="textAreaRight" fmla="*/ 3079080 w 4105080"/>
              <a:gd name="textAreaTop" fmla="*/ 0 h 2160720"/>
              <a:gd name="textAreaBottom" fmla="*/ 1800720 h 2160720"/>
            </a:gdLst>
            <a:ahLst/>
            <a:rect l="textAreaLeft" t="textAreaTop" r="textAreaRight" b="textAreaBottom"/>
            <a:pathLst>
              <a:path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1150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600"/>
                </a:lnTo>
                <a:lnTo>
                  <a:pt x="0" y="3600"/>
                </a:lnTo>
                <a:lnTo>
                  <a:pt x="5400" y="3600"/>
                </a:lnTo>
                <a:lnTo>
                  <a:pt x="5400" y="900"/>
                </a:lnTo>
                <a:cubicBezTo>
                  <a:pt x="5400" y="450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450"/>
                  <a:pt x="16200" y="900"/>
                </a:cubicBezTo>
                <a:lnTo>
                  <a:pt x="16200" y="3600"/>
                </a:lnTo>
                <a:lnTo>
                  <a:pt x="21600" y="3600"/>
                </a:lnTo>
                <a:lnTo>
                  <a:pt x="18850" y="1260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150"/>
                  <a:pt x="13500" y="20700"/>
                </a:cubicBezTo>
                <a:lnTo>
                  <a:pt x="13500" y="18000"/>
                </a:lnTo>
                <a:close/>
              </a:path>
              <a:path fill="darkenLess" w="21600" h="21600">
                <a:moveTo>
                  <a:pt x="8100" y="18000"/>
                </a:moveTo>
                <a:lnTo>
                  <a:pt x="8100" y="20700"/>
                </a:lnTo>
                <a:cubicBezTo>
                  <a:pt x="8100" y="20250"/>
                  <a:pt x="7680" y="19800"/>
                  <a:pt x="7260" y="19800"/>
                </a:cubicBezTo>
                <a:lnTo>
                  <a:pt x="6240" y="19800"/>
                </a:lnTo>
                <a:cubicBezTo>
                  <a:pt x="5820" y="19800"/>
                  <a:pt x="5400" y="19350"/>
                  <a:pt x="5400" y="18900"/>
                </a:cubicBezTo>
                <a:cubicBezTo>
                  <a:pt x="5400" y="18450"/>
                  <a:pt x="5820" y="18000"/>
                  <a:pt x="6240" y="18000"/>
                </a:cubicBezTo>
                <a:close/>
              </a:path>
              <a:path fill="darkenLess" w="21600" h="21600">
                <a:moveTo>
                  <a:pt x="13500" y="18000"/>
                </a:moveTo>
                <a:lnTo>
                  <a:pt x="13500" y="20700"/>
                </a:lnTo>
                <a:cubicBezTo>
                  <a:pt x="13500" y="20250"/>
                  <a:pt x="13920" y="19800"/>
                  <a:pt x="14340" y="19800"/>
                </a:cubicBezTo>
                <a:lnTo>
                  <a:pt x="15360" y="19800"/>
                </a:lnTo>
                <a:cubicBezTo>
                  <a:pt x="15780" y="19800"/>
                  <a:pt x="16200" y="19350"/>
                  <a:pt x="16200" y="18900"/>
                </a:cubicBezTo>
                <a:cubicBezTo>
                  <a:pt x="16200" y="18450"/>
                  <a:pt x="15780" y="18000"/>
                  <a:pt x="15360" y="18000"/>
                </a:cubicBezTo>
                <a:close/>
              </a:path>
              <a:path fill="darkenLess" w="21600" h="21600">
                <a:moveTo>
                  <a:pt x="5400" y="18900"/>
                </a:moveTo>
                <a:lnTo>
                  <a:pt x="5400" y="3600"/>
                </a:lnTo>
              </a:path>
              <a:path fill="darkenLess" w="21600" h="21600">
                <a:moveTo>
                  <a:pt x="16200" y="18900"/>
                </a:moveTo>
                <a:lnTo>
                  <a:pt x="16200" y="3600"/>
                </a:lnTo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Vertical Scroll 4"/>
          <p:cNvSpPr/>
          <p:nvPr/>
        </p:nvSpPr>
        <p:spPr>
          <a:xfrm>
            <a:off x="5219640" y="907920"/>
            <a:ext cx="3456000" cy="2376720"/>
          </a:xfrm>
          <a:prstGeom prst="verticalScroll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Curved Down Ribbon 5"/>
          <p:cNvSpPr/>
          <p:nvPr/>
        </p:nvSpPr>
        <p:spPr>
          <a:xfrm>
            <a:off x="395280" y="3645000"/>
            <a:ext cx="3816360" cy="2520720"/>
          </a:xfrm>
          <a:custGeom>
            <a:avLst/>
            <a:gdLst>
              <a:gd name="textAreaLeft" fmla="*/ 954000 w 3816360"/>
              <a:gd name="textAreaRight" fmla="*/ 2862360 w 3816360"/>
              <a:gd name="textAreaTop" fmla="*/ 630000 h 2520720"/>
              <a:gd name="textAreaBottom" fmla="*/ 244620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Horizontal Scroll 6"/>
          <p:cNvSpPr/>
          <p:nvPr/>
        </p:nvSpPr>
        <p:spPr>
          <a:xfrm>
            <a:off x="5218200" y="4025880"/>
            <a:ext cx="3529080" cy="2282760"/>
          </a:xfrm>
          <a:prstGeom prst="horizontalScroll">
            <a:avLst>
              <a:gd name="adj" fmla="val 12500"/>
            </a:avLst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7"/>
          <p:cNvSpPr/>
          <p:nvPr/>
        </p:nvSpPr>
        <p:spPr>
          <a:xfrm>
            <a:off x="1332000" y="112536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reason Japan invaded Manchu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5724360" y="1311120"/>
            <a:ext cx="25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way the League tried to address the iss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1332000" y="4546440"/>
            <a:ext cx="194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reason the League was ineff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5724360" y="457668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 way that this event made the League we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03200" y="0"/>
            <a:ext cx="653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: Rounded Corners 1"/>
          <p:cNvSpPr/>
          <p:nvPr/>
        </p:nvSpPr>
        <p:spPr>
          <a:xfrm>
            <a:off x="179280" y="209520"/>
            <a:ext cx="8575920" cy="1014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LI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Why did the League Fail in Manchur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: Rounded Corners 2"/>
          <p:cNvSpPr/>
          <p:nvPr/>
        </p:nvSpPr>
        <p:spPr>
          <a:xfrm>
            <a:off x="596880" y="2349360"/>
            <a:ext cx="3630600" cy="1764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BASIC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(1-2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GB" sz="2000" spc="-1" strike="noStrike" u="sng">
                <a:solidFill>
                  <a:srgbClr val="ff0000"/>
                </a:solidFill>
                <a:uFillTx/>
                <a:latin typeface="Comic Sans MS"/>
              </a:rPr>
              <a:t>describe</a:t>
            </a:r>
            <a:r>
              <a:rPr b="0" lang="en-GB" sz="2000" spc="-1" strike="noStrike">
                <a:solidFill>
                  <a:srgbClr val="92d05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Manchurian Crisi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: Rounded Corners 7"/>
          <p:cNvSpPr/>
          <p:nvPr/>
        </p:nvSpPr>
        <p:spPr>
          <a:xfrm>
            <a:off x="596880" y="4376880"/>
            <a:ext cx="3630600" cy="1800000"/>
          </a:xfrm>
          <a:prstGeom prst="roundRect">
            <a:avLst>
              <a:gd name="adj" fmla="val 16667"/>
            </a:avLst>
          </a:prstGeom>
          <a:solidFill>
            <a:srgbClr val="d76fc1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DEVELOP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(5-6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GB" sz="2000" spc="-1" strike="noStrike" u="sng">
                <a:solidFill>
                  <a:srgbClr val="ffff00"/>
                </a:solidFill>
                <a:uFillTx/>
                <a:latin typeface="Comic Sans MS"/>
              </a:rPr>
              <a:t>evaluate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how well the LON dealt with the Japanese invasion of Manchu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: Rounded Corners 13"/>
          <p:cNvSpPr/>
          <p:nvPr/>
        </p:nvSpPr>
        <p:spPr>
          <a:xfrm>
            <a:off x="4786200" y="2454120"/>
            <a:ext cx="3637080" cy="1764000"/>
          </a:xfrm>
          <a:prstGeom prst="roundRect">
            <a:avLst>
              <a:gd name="adj" fmla="val 16667"/>
            </a:avLst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SIMPLE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(3-4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lang="en-GB" sz="2000" spc="-1" strike="noStrike" u="sng">
                <a:solidFill>
                  <a:srgbClr val="7030a0"/>
                </a:solidFill>
                <a:uFillTx/>
                <a:latin typeface="Comic Sans MS"/>
              </a:rPr>
              <a:t>explai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hy Japan wanted to control Manchu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2" descr="... votes against joining the &lt;strong&gt;League of Nations&lt;/strong&gt; | Conspiracy of Word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91080" y="4398840"/>
            <a:ext cx="2249640" cy="22496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250920" y="185580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uccess Criteri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19280" y="26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ere is Manchuri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44360" y="15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6" descr="Map of Southeastern Asian Pacific Region with Japanese flag on Japan."/>
          <p:cNvPicPr/>
          <p:nvPr/>
        </p:nvPicPr>
        <p:blipFill>
          <a:blip r:embed="rId1"/>
          <a:stretch/>
        </p:blipFill>
        <p:spPr>
          <a:xfrm>
            <a:off x="1143000" y="1600200"/>
            <a:ext cx="6858000" cy="4896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9"/>
          <p:cNvSpPr/>
          <p:nvPr/>
        </p:nvSpPr>
        <p:spPr>
          <a:xfrm>
            <a:off x="2895480" y="1676520"/>
            <a:ext cx="2057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anchu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87120"/>
            <a:ext cx="9144000" cy="83628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y did Japan attack Manchuri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-360" y="1068120"/>
            <a:ext cx="5219640" cy="5877000"/>
          </a:xfrm>
          <a:prstGeom prst="rect">
            <a:avLst/>
          </a:prstGeom>
          <a:solidFill>
            <a:srgbClr val="d6d6f5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7030a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Manchuria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 was region of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China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It was an area rich in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natural resources 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(E.g.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Coal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Iron Ore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) and </a:t>
            </a:r>
            <a:r>
              <a:rPr b="1" lang="en-GB" sz="1900" spc="-1" strike="noStrike">
                <a:solidFill>
                  <a:srgbClr val="7030a0"/>
                </a:solidFill>
                <a:latin typeface="Comic Sans MS"/>
              </a:rPr>
              <a:t>farmland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Japan was a growing power in the Pacific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However it lacked natural resources. In particular…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Before 1929, Japan’s economy was based on exporting silk to rich countries, like the US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70c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70c0"/>
                </a:solidFill>
                <a:latin typeface="Comic Sans MS"/>
              </a:rPr>
              <a:t>How did the Great Depression impact on Japan’s economy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Japan needed resources and land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Manchuria seemed a good place to invad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It was close to Japan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Japan already had industry, railways and an army in Manchuri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There was confusion over who owned the area. (China, Russia or Japan)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ontent Placeholder 5" descr=""/>
          <p:cNvPicPr/>
          <p:nvPr/>
        </p:nvPicPr>
        <p:blipFill>
          <a:blip r:embed="rId1"/>
          <a:stretch/>
        </p:blipFill>
        <p:spPr>
          <a:xfrm>
            <a:off x="5334120" y="4322880"/>
            <a:ext cx="3809880" cy="2535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tretch/>
        </p:blipFill>
        <p:spPr>
          <a:xfrm>
            <a:off x="5334120" y="1052640"/>
            <a:ext cx="38098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44360" y="25560"/>
            <a:ext cx="885528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  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What the League did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League sent a group of officials led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Lord Lytton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o study the problem (this took a year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n February 1933 his written report led to the LON ordering Japan to leave Manchur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omic Sans MS"/>
              </a:rPr>
              <a:t>The Outcom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Japan refused to leave Manchuria.   Instead,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Japan left the Leagu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Many countries had important trading links with Japan.   The League could not agree on sanctions or even a ban on weapons sales.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ritain and France did not want a war, so nothing was do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Japanese stayed in Manchu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League had failed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95280" y="5732640"/>
            <a:ext cx="4968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ey Question: How has the League failed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ummary in 6 point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In 1931 the Japanese claimed that one of their trains in Manchuria had been bombe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Japanese army used this as an excuse to attack, taking over the Chinese province of Manchu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Chinese denied that the train had been bombed at al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League of nations set up the Lytton Commission to investigate the incident.  Lord Lytton concluded that the Japanese had over reacted and should not have invaded Manchuri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Japan ignored the League’s findings and left the organisation.  They started a full scale invasion of Chin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mic Sans MS"/>
              </a:rPr>
              <a:t>The League was powerless to do anything about i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" dur="500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324000" y="33336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ask: Complete the storyboard showing what happened during the invasion of Manchuria and how the League dealt with the inciden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472000" y="4338720"/>
            <a:ext cx="3672000" cy="2519280"/>
          </a:xfrm>
          <a:prstGeom prst="rect">
            <a:avLst/>
          </a:prstGeom>
          <a:solidFill>
            <a:srgbClr val="ffffff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traight Connector 5"/>
          <p:cNvSpPr/>
          <p:nvPr/>
        </p:nvSpPr>
        <p:spPr>
          <a:xfrm>
            <a:off x="7846920" y="4338720"/>
            <a:ext cx="0" cy="25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traight Connector 6"/>
          <p:cNvSpPr/>
          <p:nvPr/>
        </p:nvSpPr>
        <p:spPr>
          <a:xfrm>
            <a:off x="6634080" y="4338720"/>
            <a:ext cx="0" cy="2519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traight Connector 7"/>
          <p:cNvSpPr/>
          <p:nvPr/>
        </p:nvSpPr>
        <p:spPr>
          <a:xfrm>
            <a:off x="5472000" y="527364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traight Connector 10"/>
          <p:cNvSpPr/>
          <p:nvPr/>
        </p:nvSpPr>
        <p:spPr>
          <a:xfrm>
            <a:off x="5472000" y="549108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traight Connector 11"/>
          <p:cNvSpPr/>
          <p:nvPr/>
        </p:nvSpPr>
        <p:spPr>
          <a:xfrm>
            <a:off x="5472000" y="6570720"/>
            <a:ext cx="36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2" descr="C:\Users\Gayle\AppData\Local\Microsoft\Windows\Temporary Internet Files\Content.IE5\KMXZUEZU\MC900331514[1].wmf"/>
          <p:cNvPicPr/>
          <p:nvPr/>
        </p:nvPicPr>
        <p:blipFill>
          <a:blip r:embed="rId1"/>
          <a:stretch/>
        </p:blipFill>
        <p:spPr>
          <a:xfrm>
            <a:off x="5472000" y="4554360"/>
            <a:ext cx="1150920" cy="532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3" descr="https://upload.wikimedia.org/wikipedia/commons/thumb/f/fa/Flag_of_the_People%27s_Republic_of_China.svg/255px-Flag_of_the_People%27s_Republic_of_China.svg.png"/>
          <p:cNvPicPr/>
          <p:nvPr/>
        </p:nvPicPr>
        <p:blipFill>
          <a:blip r:embed="rId2"/>
          <a:stretch/>
        </p:blipFill>
        <p:spPr>
          <a:xfrm>
            <a:off x="34920" y="5594400"/>
            <a:ext cx="1698480" cy="1131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https://rlv.zcache.com/japan_japanese_flag_rectangular_sticker-r0693c9f6431e466fb41b5563c2549d4a_v9wxo_8byvr_324.jpg"/>
          <p:cNvPicPr/>
          <p:nvPr/>
        </p:nvPicPr>
        <p:blipFill>
          <a:blip r:embed="rId3"/>
          <a:srcRect l="0" t="17485" r="0" b="24251"/>
          <a:stretch/>
        </p:blipFill>
        <p:spPr>
          <a:xfrm>
            <a:off x="1844640" y="5594400"/>
            <a:ext cx="2000160" cy="1165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" descr=""/>
          <p:cNvPicPr/>
          <p:nvPr/>
        </p:nvPicPr>
        <p:blipFill>
          <a:blip r:embed="rId4"/>
          <a:srcRect l="15350" t="24802" r="57752" b="14723"/>
          <a:stretch/>
        </p:blipFill>
        <p:spPr>
          <a:xfrm>
            <a:off x="90360" y="1457280"/>
            <a:ext cx="524664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250920" y="189000"/>
            <a:ext cx="864216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Why was the League of Nations unable to stop Japan taking over Manchuria in the 1930s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re are seven reasons why the League failed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. Weak p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America was not a 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The League's structure/organisation was in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World Depression made nations less cooper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. The more the League failed, the less authority it h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 Its own members betrayed it and let it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. The League faced aggressive military fascist p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Task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How many of these factors can you see at work in the League's failure in the Manchurian crisis - w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ext to each one explain how it played a part in Manchu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tension: Why did the League fail in Manchuria? Expl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4:04:17Z</dcterms:created>
  <dc:creator>brettw</dc:creator>
  <dc:description/>
  <dc:language>en-US</dc:language>
  <cp:lastModifiedBy>Short, L (SHS Teacher)</cp:lastModifiedBy>
  <cp:lastPrinted>2020-11-13T07:35:35Z</cp:lastPrinted>
  <dcterms:modified xsi:type="dcterms:W3CDTF">2020-11-13T08:05:55Z</dcterms:modified>
  <cp:revision>41</cp:revision>
  <dc:subject/>
  <dc:title>Why did the League Fail in Manchuria?</dc:title>
</cp:coreProperties>
</file>