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89E95-1510-430E-83C5-39BAB519B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779EA-10A9-4DEA-8EDF-BBC56664F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6FAEB-BF44-48BB-97A5-5D25938BE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E9CCA-312D-40D3-91E9-FE14F67A5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7F94-5217-41F5-836A-A9DF86A60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85FC1-17B7-49C0-A377-5F257AFEC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DE4C-02E5-4FF4-87A6-C0C923F89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9E4F4-3E4D-4275-875F-36A48C2CF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987F4-8910-462F-85E9-C032B2930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CDC3-0544-44D4-BEFA-A1DEFE442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1998-6054-45B8-A9D9-6F9078E3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207C-68F3-436C-B5EB-46D2AA7BE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46FF-DE34-4451-A3C9-A97C08C1BCE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997BAB68-12E1-4CC2-B442-325C4AF72068}" type="datetime2">
              <a:rPr b="0" lang="en-GB" sz="4000" spc="-1" strike="noStrike" u="sng">
                <a:solidFill>
                  <a:srgbClr val="000000"/>
                </a:solidFill>
                <a:uFillTx/>
                <a:latin typeface="Arial"/>
                <a:ea typeface="Verdana"/>
              </a:rPr>
              <a:t>Wednesday 29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