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F2BF1-C190-4A4A-BAB4-445E2846B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03C3-D5C4-4CD8-8381-2A81137ED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045F3-9D7B-4534-95E2-3075D8359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5F676-80DC-4045-99B2-BDF4B4498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B03C-2EDF-44C4-9A4C-275C160C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902B-5F77-4442-9286-30293AAF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692D-4B46-47F5-A1AC-A78EFE03C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F709E-B0C5-4EE2-90ED-7E67A7B2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A87B-79BB-4A53-A60C-8A4B3222D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5C82-4B14-434C-821B-49D54080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F4A5-7AA2-4E1B-BB84-C6488DD0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4872-B722-459E-B859-6445A7150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6E79-8E34-46D3-9D3C-4BBE87EE644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54C2B002-B050-4BD8-B542-DC52A9BAE6B2}" type="datetime2">
              <a:rPr b="0" lang="en-GB" sz="3600" spc="-1" strike="noStrike" u="sng">
                <a:solidFill>
                  <a:srgbClr val="000000"/>
                </a:solidFill>
                <a:uFillTx/>
                <a:latin typeface="Arial"/>
                <a:ea typeface="Verdana"/>
              </a:rPr>
              <a:t>Wednesday 29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