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961A5-13E7-4D5B-A5E1-5CC5F969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A9874-2767-412F-B89A-E8E52CC33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8801D-A7B0-41AB-BE76-9AF5EB30E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1B14F-46FC-40A6-92D1-F409FA2B4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68D6-663A-4C09-99E4-1E08E31E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A567-AE6E-49AF-8C3A-4141B2CA7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725BD-B542-4930-AB6C-B221BD5B4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0D9EB-E45D-4DB4-8A8A-0E63EDA1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6F8B-66A6-42BA-B4A0-E4C07D021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7824-55AF-46D7-8961-971B9E5F8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847F6-3801-4CFC-8F5E-E767C7962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0860-FF77-489C-8779-00675819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61D0-D368-4D9D-A715-2D7674C9ACD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7955CFD2-F154-49FA-B9AF-5E38B0FBDCAC}" type="datetime2">
              <a:rPr b="0" lang="en-GB" sz="3600" spc="-1" strike="noStrike" u="sng">
                <a:solidFill>
                  <a:srgbClr val="000000"/>
                </a:solidFill>
                <a:uFillTx/>
                <a:latin typeface="Arial"/>
                <a:ea typeface="Verdana"/>
              </a:rPr>
              <a:t>Tuesday 28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