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C3EB2-DD91-4A33-B1CB-BDE12FDAB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76AC-27AA-490E-BB03-2FB6ADA45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6B08D-51B1-4649-B657-72661E06D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98E60-5EE6-45BA-BCD2-7B7BAED2D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A498D-4373-42C3-89A9-604E01FDF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880C9-938F-49E5-9FAD-6A99EAB86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8D728-F73C-4F6B-9608-064E06B97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9C3BE-23C7-437D-B5A3-B785515DA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A430D-8DA9-4F7E-9A28-459ADBE88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58BBF-F0F6-4841-904B-745B7A676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DCBA-498E-462F-93AE-3CC501E0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5B4EF-45CB-41A4-B49F-BAFC7C6AC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39D1-CB8E-48FB-BE55-C8E683B8247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48E3C69E-FCD3-4AEA-AFAF-7538258EB427}" type="datetime2">
              <a:rPr b="0" lang="en-GB" sz="3600" spc="-1" strike="noStrike" u="sng">
                <a:solidFill>
                  <a:srgbClr val="000000"/>
                </a:solidFill>
                <a:uFillTx/>
                <a:latin typeface="Arial"/>
                <a:ea typeface="Verdana"/>
              </a:rPr>
              <a:t>Wednesday 29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