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3064F-83FA-4958-8FC1-A2D715B47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F07E5-40DC-4267-9086-36917D742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7C5C9-19B7-498A-BB39-586460D9E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4A853-BABA-483B-9F4D-455F6AD17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5B02B-B8CE-47E9-969E-C1EFCB2E4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CCAA-6D4B-40EA-A6B7-A9BBF7A65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5FD7-FBA6-433F-8249-9E7B12228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BA031-4364-4228-A3FF-51248B82E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2436C-1448-4718-86F5-A3035E9B1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D3B8-AEE6-47D5-A52E-07EE4DDC4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1EE7-F020-4694-9F92-F5B95111B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6B504-A8C0-4615-A147-9895F3C41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B7B0-72EB-42C4-A254-0E5BF60CC33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3239BF36-387B-4B67-9CF2-A172894174FC}" type="datetime2">
              <a:rPr b="0" lang="en-GB" sz="3600" spc="-1" strike="noStrike" u="sng">
                <a:solidFill>
                  <a:srgbClr val="000000"/>
                </a:solidFill>
                <a:uFillTx/>
                <a:latin typeface="Arial"/>
                <a:ea typeface="Verdana"/>
              </a:rPr>
              <a:t>Wednesday 29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