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8E38-DD2E-4C84-84FD-DD02BE4233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6E4C-BAE1-4EB4-9607-4FF91134B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3F7D-5D25-403E-8524-DDDF33520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8512-9EA5-425C-8454-8EF2DECD5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EC4E-D7A5-45D7-A99A-9D98054EB8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301-AF64-4E8D-A79A-2313CDD5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4EB-A1D2-47EF-A2CC-05A33D65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2AA-DA43-4F78-91B5-D2306E7E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2027-18D3-407B-88A1-076B620A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74F0-65EE-4A63-95F6-E753A2AF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C745-136D-4D43-AD23-9BAFFF3F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98C-B958-4F7E-8679-4493CA44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B26-1E2C-449C-AACE-02329581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8EB-FA5F-4530-B904-A3CD5120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3EA-386D-4D84-9E3A-35445C55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2FC-C514-446E-B59A-A0CDEE0E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A3F-C0D9-4272-9AFB-B2AD2E4B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4B3E-ECAC-4CE2-8291-2AC704952C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Blackadder ITC"/>
              </a:rPr>
              <a:t>About me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y P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an00790_"/>
          <p:cNvPicPr/>
          <p:nvPr/>
        </p:nvPicPr>
        <p:blipFill>
          <a:blip r:embed="rId1"/>
          <a:stretch/>
        </p:blipFill>
        <p:spPr>
          <a:xfrm>
            <a:off x="5562720" y="3581280"/>
            <a:ext cx="25635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Pat Sm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 live at 45 West street in Newtown by the post office in a house with a blue door and three bedroo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mum works for the post office and goes to work very early every day and I have to get breakfast for Ja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best friend likes football and chips and his dad’s car and going to his nan’s house on sundays except when Jamie is there because she’s always getting everyone into trou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pe01832_"/>
          <p:cNvPicPr/>
          <p:nvPr/>
        </p:nvPicPr>
        <p:blipFill>
          <a:blip r:embed="rId1"/>
          <a:stretch/>
        </p:blipFill>
        <p:spPr>
          <a:xfrm>
            <a:off x="5562720" y="3886200"/>
            <a:ext cx="2744640" cy="250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en00354_"/>
          <p:cNvPicPr/>
          <p:nvPr/>
        </p:nvPicPr>
        <p:blipFill>
          <a:blip r:embed="rId2"/>
          <a:stretch/>
        </p:blipFill>
        <p:spPr>
          <a:xfrm>
            <a:off x="762120" y="4267080"/>
            <a:ext cx="2590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dad lives in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sister is younger than me and is a pain in the n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have got three cats called Tommy fred and tib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got our dog from the rescue centre because he had been abad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mp00640_"/>
          <p:cNvPicPr/>
          <p:nvPr/>
        </p:nvPicPr>
        <p:blipFill>
          <a:blip r:embed="rId1"/>
          <a:stretch/>
        </p:blipFill>
        <p:spPr>
          <a:xfrm>
            <a:off x="4800600" y="2895480"/>
            <a:ext cx="3483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bb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pe01659_"/>
          <p:cNvPicPr/>
          <p:nvPr/>
        </p:nvPicPr>
        <p:blipFill>
          <a:blip r:embed="rId1"/>
          <a:stretch/>
        </p:blipFill>
        <p:spPr>
          <a:xfrm>
            <a:off x="2971800" y="1523880"/>
            <a:ext cx="5303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hoo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Jokerman"/>
              </a:rPr>
              <a:t>I liked my last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iss jones was great but mr best was horrid and he got cross when I tal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nard MT Condensed"/>
              </a:rPr>
              <a:t>I liked maths but not history or 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바탕"/>
              </a:rPr>
              <a:t>My school was near here, just round the co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bd00146_"/>
          <p:cNvPicPr/>
          <p:nvPr/>
        </p:nvPicPr>
        <p:blipFill>
          <a:blip r:embed="rId1"/>
          <a:stretch/>
        </p:blipFill>
        <p:spPr>
          <a:xfrm>
            <a:off x="6172200" y="0"/>
            <a:ext cx="2743200" cy="272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bs00554_"/>
          <p:cNvPicPr/>
          <p:nvPr/>
        </p:nvPicPr>
        <p:blipFill>
          <a:blip r:embed="rId2"/>
          <a:stretch/>
        </p:blipFill>
        <p:spPr>
          <a:xfrm>
            <a:off x="0" y="0"/>
            <a:ext cx="2514600" cy="219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bs00559_"/>
          <p:cNvPicPr/>
          <p:nvPr/>
        </p:nvPicPr>
        <p:blipFill>
          <a:blip r:embed="rId3"/>
          <a:stretch/>
        </p:blipFill>
        <p:spPr>
          <a:xfrm>
            <a:off x="6019920" y="5505480"/>
            <a:ext cx="2385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0:06:14Z</dcterms:created>
  <dc:creator>peter</dc:creator>
  <dc:description/>
  <dc:language>en-US</dc:language>
  <cp:lastModifiedBy>BRYAN, C (SHS Teacher)</cp:lastModifiedBy>
  <dcterms:modified xsi:type="dcterms:W3CDTF">2020-09-30T15:32:43Z</dcterms:modified>
  <cp:revision>2</cp:revision>
  <dc:subject/>
  <dc:title>Pat’s Presentation</dc:title>
</cp:coreProperties>
</file>