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3A52-BD1C-4A32-BFB9-D3EC2C32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A7A6-F989-41E9-8470-2C0E8BA2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6594-0B4F-418E-8484-30F109CB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3531-F598-400F-B49C-8AA1FCB4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207B-42E2-4D8F-A352-0C271480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9F72-9D3E-47F2-BDA2-315C1DB8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9675-01C1-4514-93CF-EE1D579A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F257-FF40-400C-8B4C-BC9131F8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EA28-ECAE-432A-B2FF-F309A873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DC4D-AA88-43ED-B222-186EB92E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275A-0E18-430B-8619-DD6568B5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B6D8-393D-4DB6-A411-C8374A30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02A0-8E5F-49F9-8A77-E2B05000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8979-3B35-4E42-86F6-B3620878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2869-B1CF-4A50-B862-01B2A216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35A0-D9DD-4375-A79B-F975BAF5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DE0A-E35E-44A8-82BF-6E99756A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DB50-62A8-4C0F-8D1F-18CCA785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1501-A8B9-4985-833D-ED19E303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802F-6A0E-4C7A-A67A-D462EF72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EE30-A98E-42C6-A031-1B1FB179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CEBA-A35F-4CD6-9232-9DA34709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B707-B4C2-4214-BCC1-571224A3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AA63-4B28-4F1F-9DC9-51B738E4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B295D-076D-4489-A5D8-E9E6EED4EF39}" type="slidenum">
              <a:rPr b="0" lang="en-GB" sz="10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04720" y="6415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7947000" y="30733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CA92BD-989B-4FB4-81F0-F4B6A461412B}" type="slidenum">
              <a:rPr b="0" lang="en-GB" sz="10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‘</a:t>
            </a: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ALL ABOUT ME’</a:t>
            </a:r>
            <a:br>
              <a:rPr sz="4300"/>
            </a:b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CREATING A MULTIMEDIA PRESENTATION</a:t>
            </a:r>
            <a:endParaRPr b="1" lang="en-US" sz="43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71680" y="2428920"/>
            <a:ext cx="757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Learning Intent – To be able to explain what the terms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purpos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and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audienc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mean when planning a multi-media presentation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To plan the content of your multi-media presentation, making sure it is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suitabl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for th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Rockwell"/>
              </a:rPr>
              <a:t>purpos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and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Rockwell"/>
              </a:rPr>
              <a:t>audience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39640" y="182736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All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Create a word-processed list of points about themselves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Most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Will create a more detailed document with information about themselves yourself, such as your hobbies, likes, dislikes including images taken from the Interne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Some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Will use formatting techniques to improve the layout of the document and will also begin to plan/design out their work out as a storyboard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4287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‘</a:t>
            </a: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All About Me’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Creating a Multimedia Presentati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Bookman Old Style"/>
              </a:rPr>
              <a:t>Success Criteria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2:18:01Z</dcterms:created>
  <dc:creator>peter</dc:creator>
  <dc:description/>
  <dc:language>en-US</dc:language>
  <cp:lastModifiedBy>BRYAN, C (SHS Teacher)</cp:lastModifiedBy>
  <dcterms:modified xsi:type="dcterms:W3CDTF">2020-09-30T15:42:36Z</dcterms:modified>
  <cp:revision>34</cp:revision>
  <dc:subject/>
  <dc:title>All About Me Creating a Multimedia Presentation</dc:title>
</cp:coreProperties>
</file>