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28C7-11B4-4FF1-AECA-4BB872B085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6536-66C7-4B8D-9134-3AF7517BF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D2A3-B0D2-4BE7-9F7F-2D2F4E3D2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EF3C-F5A4-4958-9885-56D60DB3D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31E9-F6B0-4870-9BC2-E17ED4EE8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892-44AF-45E3-A344-1E56E979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46C-5BA4-4BAF-AE0A-818E064B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B7E-FA69-4BBD-B0C2-1891F376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154-2A23-4954-BFF8-4166178B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3E5-17C0-4C81-8CDC-CEF9BA1F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3CB-BEFF-4D35-9AFB-566CECDB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470-D448-4268-9B85-992825FB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E41-9714-4271-9AC4-4A4B6AAC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F9F-0195-4494-96AD-CF839077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9B3-7808-47F5-BCAF-3A5D7AA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650-C74B-4B91-94F7-86D42919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B68-711E-437D-996F-FC06D61E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F070-2C4F-4193-9E5D-4D04AECA09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Blackadder ITC"/>
              </a:rPr>
              <a:t>About me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y 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5562720" y="3581280"/>
            <a:ext cx="2563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Pat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 live at 45 West street in Newtown by the post office in a house with a blue door and three bedro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mum works for the post office and goes to work very early every day and I have to get breakfast for Ja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best friend likes football and chips and his dad’s car and going to his nan’s house on sundays except when Jamie is there because she’s always getting everyone into trou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pe01832_"/>
          <p:cNvPicPr/>
          <p:nvPr/>
        </p:nvPicPr>
        <p:blipFill>
          <a:blip r:embed="rId1"/>
          <a:stretch/>
        </p:blipFill>
        <p:spPr>
          <a:xfrm>
            <a:off x="5562720" y="388620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n00354_"/>
          <p:cNvPicPr/>
          <p:nvPr/>
        </p:nvPicPr>
        <p:blipFill>
          <a:blip r:embed="rId2"/>
          <a:stretch/>
        </p:blipFill>
        <p:spPr>
          <a:xfrm>
            <a:off x="762120" y="4267080"/>
            <a:ext cx="2590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d lives in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sister is younger than me and is a pain in the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have got three cats called Tommy fred and t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got our dog from the rescue centre because he had been aba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p00640_"/>
          <p:cNvPicPr/>
          <p:nvPr/>
        </p:nvPicPr>
        <p:blipFill>
          <a:blip r:embed="rId1"/>
          <a:stretch/>
        </p:blipFill>
        <p:spPr>
          <a:xfrm>
            <a:off x="4800600" y="2895480"/>
            <a:ext cx="3483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pe01659_"/>
          <p:cNvPicPr/>
          <p:nvPr/>
        </p:nvPicPr>
        <p:blipFill>
          <a:blip r:embed="rId1"/>
          <a:stretch/>
        </p:blipFill>
        <p:spPr>
          <a:xfrm>
            <a:off x="2971800" y="1523880"/>
            <a:ext cx="530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Jokerman"/>
              </a:rPr>
              <a:t>I liked my las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 jones was great but mr best was horrid and he got cross when I tal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nard MT Condensed"/>
              </a:rPr>
              <a:t>I liked maths but not history or 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바탕"/>
              </a:rPr>
              <a:t>My school was near here, just round the co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bd00146_"/>
          <p:cNvPicPr/>
          <p:nvPr/>
        </p:nvPicPr>
        <p:blipFill>
          <a:blip r:embed="rId1"/>
          <a:stretch/>
        </p:blipFill>
        <p:spPr>
          <a:xfrm>
            <a:off x="6172200" y="0"/>
            <a:ext cx="274320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s00554_"/>
          <p:cNvPicPr/>
          <p:nvPr/>
        </p:nvPicPr>
        <p:blipFill>
          <a:blip r:embed="rId2"/>
          <a:stretch/>
        </p:blipFill>
        <p:spPr>
          <a:xfrm>
            <a:off x="0" y="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s00559_"/>
          <p:cNvPicPr/>
          <p:nvPr/>
        </p:nvPicPr>
        <p:blipFill>
          <a:blip r:embed="rId3"/>
          <a:stretch/>
        </p:blipFill>
        <p:spPr>
          <a:xfrm>
            <a:off x="6019920" y="5505480"/>
            <a:ext cx="2385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06:14Z</dcterms:created>
  <dc:creator>peter</dc:creator>
  <dc:description/>
  <dc:language>en-US</dc:language>
  <cp:lastModifiedBy>BRYAN, C (SHS Teacher)</cp:lastModifiedBy>
  <dcterms:modified xsi:type="dcterms:W3CDTF">2020-09-30T15:32:43Z</dcterms:modified>
  <cp:revision>2</cp:revision>
  <dc:subject/>
  <dc:title>Pat’s Presentation</dc:title>
</cp:coreProperties>
</file>