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C9C5-9708-4379-A2C3-2684F61BA9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D3BE-6EF5-47D7-B099-155680FA4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A34D-E143-4512-99B3-082F7B2CD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792C-7882-4FA1-923F-89CC026B9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23F6-6083-4549-8D4B-C607C1E57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B688-04F3-42D0-A295-C3C16BD8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F2F9-AAAF-424B-A9AB-960ECC1D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53C-6A3C-4D91-B2C5-288C2B91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EF5-97DC-4225-96E8-4271E5E3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F232-D542-4AB9-AF76-ABA79119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0FD-2F67-454A-8E04-A530CF2A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389A-1D86-4767-B8FD-FFDBEEC0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2719-9298-48F6-A7A3-FE4354B7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2975-A63C-4EDA-82AF-2F33FB70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EB2D-1EF5-4523-8017-CE4AB5E5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1371-141F-48C2-B1E4-73EEB85D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DDA-F15C-4757-BE44-59F5ADDC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332A-0F0B-4EF1-982B-AFF161618D6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Blackadder ITC"/>
              </a:rPr>
              <a:t>About me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y P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an00790_"/>
          <p:cNvPicPr/>
          <p:nvPr/>
        </p:nvPicPr>
        <p:blipFill>
          <a:blip r:embed="rId1"/>
          <a:stretch/>
        </p:blipFill>
        <p:spPr>
          <a:xfrm>
            <a:off x="5562720" y="3581280"/>
            <a:ext cx="25635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name is Pat Sm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 live at 45 West street in Newtown by the post office in a house with a blue door and three bedroo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y mum works for the post office and goes to work very early every day and I have to get breakfast for Ja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y best friend likes football and chips and his dad’s car and going to his nan’s house on sundays except when Jamie is there because she’s always getting everyone into trou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pe01832_"/>
          <p:cNvPicPr/>
          <p:nvPr/>
        </p:nvPicPr>
        <p:blipFill>
          <a:blip r:embed="rId1"/>
          <a:stretch/>
        </p:blipFill>
        <p:spPr>
          <a:xfrm>
            <a:off x="5562720" y="3886200"/>
            <a:ext cx="2744640" cy="2508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en00354_"/>
          <p:cNvPicPr/>
          <p:nvPr/>
        </p:nvPicPr>
        <p:blipFill>
          <a:blip r:embed="rId2"/>
          <a:stretch/>
        </p:blipFill>
        <p:spPr>
          <a:xfrm>
            <a:off x="762120" y="4267080"/>
            <a:ext cx="2590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y dad lives in Sp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y sister is younger than me and is a pain in the n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have got three cats called Tommy fred and tib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got our dog from the rescue centre because he had been abado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mp00640_"/>
          <p:cNvPicPr/>
          <p:nvPr/>
        </p:nvPicPr>
        <p:blipFill>
          <a:blip r:embed="rId1"/>
          <a:stretch/>
        </p:blipFill>
        <p:spPr>
          <a:xfrm>
            <a:off x="4800600" y="2895480"/>
            <a:ext cx="3483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bb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otb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pe01659_"/>
          <p:cNvPicPr/>
          <p:nvPr/>
        </p:nvPicPr>
        <p:blipFill>
          <a:blip r:embed="rId1"/>
          <a:stretch/>
        </p:blipFill>
        <p:spPr>
          <a:xfrm>
            <a:off x="2971800" y="1523880"/>
            <a:ext cx="5303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hool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Jokerman"/>
              </a:rPr>
              <a:t>I liked my last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iss jones was great but mr best was horrid and he got cross when I talk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nard MT Condensed"/>
              </a:rPr>
              <a:t>I liked maths but not history or 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바탕"/>
              </a:rPr>
              <a:t>My school was near here, just round the cor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bd00146_"/>
          <p:cNvPicPr/>
          <p:nvPr/>
        </p:nvPicPr>
        <p:blipFill>
          <a:blip r:embed="rId1"/>
          <a:stretch/>
        </p:blipFill>
        <p:spPr>
          <a:xfrm>
            <a:off x="6172200" y="0"/>
            <a:ext cx="2743200" cy="2720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bs00554_"/>
          <p:cNvPicPr/>
          <p:nvPr/>
        </p:nvPicPr>
        <p:blipFill>
          <a:blip r:embed="rId2"/>
          <a:stretch/>
        </p:blipFill>
        <p:spPr>
          <a:xfrm>
            <a:off x="0" y="0"/>
            <a:ext cx="2514600" cy="219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bs00559_"/>
          <p:cNvPicPr/>
          <p:nvPr/>
        </p:nvPicPr>
        <p:blipFill>
          <a:blip r:embed="rId3"/>
          <a:stretch/>
        </p:blipFill>
        <p:spPr>
          <a:xfrm>
            <a:off x="6019920" y="5505480"/>
            <a:ext cx="23857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0:06:14Z</dcterms:created>
  <dc:creator>peter</dc:creator>
  <dc:description/>
  <dc:language>en-US</dc:language>
  <cp:lastModifiedBy>BRYAN, C (SHS Teacher)</cp:lastModifiedBy>
  <dcterms:modified xsi:type="dcterms:W3CDTF">2020-09-30T15:32:43Z</dcterms:modified>
  <cp:revision>2</cp:revision>
  <dc:subject/>
  <dc:title>Pat’s Presentation</dc:title>
</cp:coreProperties>
</file>