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2837-CF48-47FE-B0F3-0ECAC14059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99D4-B3BE-4F8B-92ED-A0433CE98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908A-8927-4A6D-BAE5-9E801D3A8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1F70-9F7F-4CE4-8D72-C77F86EBB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EFEC-31A1-425F-AD0A-B4C6A514E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0FC-2CD8-432E-994A-84E85EBF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F18-1E9A-4FFF-A472-EEED7F65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6BB-B49C-4641-9AED-421350D0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31D1-5B18-450A-8605-AD6695D7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3E09-4F64-42AD-AC96-750EE846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EE6C-E98D-4ABE-B9DE-48F84717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116F-82F8-46AD-BC6E-F26D75B4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B8E-65B7-4E89-81EE-754386C4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456-A471-4D1C-93BE-C3989EB1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5713-01D3-4513-9833-8EA18EA0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A15-45A1-47B2-8289-1EFA867F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FEAF-FE5A-4411-B364-75E6DC6F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6BA0-7537-4AD4-8E75-DD3B591596B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Blackadder ITC"/>
              </a:rPr>
              <a:t>About me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y P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an00790_"/>
          <p:cNvPicPr/>
          <p:nvPr/>
        </p:nvPicPr>
        <p:blipFill>
          <a:blip r:embed="rId1"/>
          <a:stretch/>
        </p:blipFill>
        <p:spPr>
          <a:xfrm>
            <a:off x="5562720" y="3581280"/>
            <a:ext cx="25635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name is Pat Sm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 live at 45 West street in Newtown by the post office in a house with a blue door and three bedroo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mum works for the post office and goes to work very early every day and I have to get breakfast for Ja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best friend likes football and chips and his dad’s car and going to his nan’s house on sundays except when Jamie is there because she’s always getting everyone into trou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pe01832_"/>
          <p:cNvPicPr/>
          <p:nvPr/>
        </p:nvPicPr>
        <p:blipFill>
          <a:blip r:embed="rId1"/>
          <a:stretch/>
        </p:blipFill>
        <p:spPr>
          <a:xfrm>
            <a:off x="5562720" y="3886200"/>
            <a:ext cx="2744640" cy="250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en00354_"/>
          <p:cNvPicPr/>
          <p:nvPr/>
        </p:nvPicPr>
        <p:blipFill>
          <a:blip r:embed="rId2"/>
          <a:stretch/>
        </p:blipFill>
        <p:spPr>
          <a:xfrm>
            <a:off x="762120" y="4267080"/>
            <a:ext cx="2590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dad lives in S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sister is younger than me and is a pain in the n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have got three cats called Tommy fred and tib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got our dog from the rescue centre because he had been abad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mp00640_"/>
          <p:cNvPicPr/>
          <p:nvPr/>
        </p:nvPicPr>
        <p:blipFill>
          <a:blip r:embed="rId1"/>
          <a:stretch/>
        </p:blipFill>
        <p:spPr>
          <a:xfrm>
            <a:off x="4800600" y="2895480"/>
            <a:ext cx="3483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bb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tb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pe01659_"/>
          <p:cNvPicPr/>
          <p:nvPr/>
        </p:nvPicPr>
        <p:blipFill>
          <a:blip r:embed="rId1"/>
          <a:stretch/>
        </p:blipFill>
        <p:spPr>
          <a:xfrm>
            <a:off x="2971800" y="1523880"/>
            <a:ext cx="5303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hool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Jokerman"/>
              </a:rPr>
              <a:t>I liked my last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iss jones was great but mr best was horrid and he got cross when I tal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nard MT Condensed"/>
              </a:rPr>
              <a:t>I liked maths but not history or 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바탕"/>
              </a:rPr>
              <a:t>My school was near here, just round the cor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bd00146_"/>
          <p:cNvPicPr/>
          <p:nvPr/>
        </p:nvPicPr>
        <p:blipFill>
          <a:blip r:embed="rId1"/>
          <a:stretch/>
        </p:blipFill>
        <p:spPr>
          <a:xfrm>
            <a:off x="6172200" y="0"/>
            <a:ext cx="2743200" cy="2720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bs00554_"/>
          <p:cNvPicPr/>
          <p:nvPr/>
        </p:nvPicPr>
        <p:blipFill>
          <a:blip r:embed="rId2"/>
          <a:stretch/>
        </p:blipFill>
        <p:spPr>
          <a:xfrm>
            <a:off x="0" y="0"/>
            <a:ext cx="2514600" cy="219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bs00559_"/>
          <p:cNvPicPr/>
          <p:nvPr/>
        </p:nvPicPr>
        <p:blipFill>
          <a:blip r:embed="rId3"/>
          <a:stretch/>
        </p:blipFill>
        <p:spPr>
          <a:xfrm>
            <a:off x="6019920" y="5505480"/>
            <a:ext cx="2385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0:06:14Z</dcterms:created>
  <dc:creator>peter</dc:creator>
  <dc:description/>
  <dc:language>en-US</dc:language>
  <cp:lastModifiedBy>BRYAN, C (SHS Teacher)</cp:lastModifiedBy>
  <dcterms:modified xsi:type="dcterms:W3CDTF">2020-09-30T15:32:43Z</dcterms:modified>
  <cp:revision>2</cp:revision>
  <dc:subject/>
  <dc:title>Pat’s Presentation</dc:title>
</cp:coreProperties>
</file>