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A268-16A2-45E3-BB8C-FD5A6D2E371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72B2-D19A-46B2-A9E7-4F6688D77E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include an image here? What sort of image has Pat chosen here? How does the image illustrate the point Pat is ma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use this type of image? What effect would it have if Pat replaced it with a different kind of im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EDDC-E604-4813-8F72-B4B375AF15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include an image here? What sort of image has Pat chosen here? How does the image illustrate the point Pat is ma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use this type of image? What effect would it have if Pat replaced it with a different kind of im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993B-4EAC-466C-9B33-75D7DADEC6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include an image here? What sort of image has Pat chosen here? How does the image illustrate the point Pat is ma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use this type of image? What effect would it have if Pat replaced it with a different kind of im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DFED-CED1-4DB0-A811-E3CA35ED6D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include an image here? What sort of image has Pat chosen here? How does the image illustrate the point Pat is ma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use this type of image? What effect would it have if Pat replaced it with a different kind of im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E3D0-7FEE-416B-9FD8-C26B8EBE2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909B-CE8E-469D-AC0C-CC94471C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40B3-8E1F-4C4E-B2DB-8BB5AF4A7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E5EE-7E00-4B83-8794-5813B9DC4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E9F6-D1C0-40D5-A41B-F198DA35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4EED-4F6D-48D3-B904-5687CE3C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C03A-E903-4882-A7DE-D9CB90A8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0323-EE74-4753-AECA-32215143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36E9-F408-48F4-B451-18476C77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8B80-D459-496B-BD4A-8F020857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DB37-B454-4D4B-A6EC-D770A5D7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F307-0F40-44D4-B7BB-513056E4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EF03-B047-4BE3-A7CB-DEE4382C38D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Blackadder ITC"/>
              </a:rPr>
              <a:t>About me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By P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an00790_"/>
          <p:cNvPicPr/>
          <p:nvPr/>
        </p:nvPicPr>
        <p:blipFill>
          <a:blip r:embed="rId1"/>
          <a:stretch/>
        </p:blipFill>
        <p:spPr>
          <a:xfrm>
            <a:off x="5562720" y="3581280"/>
            <a:ext cx="256356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name is Pat Smi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 live at 45 West street in Newtown by the post office in a house with a blue door and three bedroo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y mum works for the post office and goes to work very early every day and I have to get breakfast for Ja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y best friend likes football and chips and his dad’s car and going to his nan’s house on sundays except when Jamie is there because she’s always getting everyone into troub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pe01832_"/>
          <p:cNvPicPr/>
          <p:nvPr/>
        </p:nvPicPr>
        <p:blipFill>
          <a:blip r:embed="rId1"/>
          <a:stretch/>
        </p:blipFill>
        <p:spPr>
          <a:xfrm>
            <a:off x="5562720" y="3886200"/>
            <a:ext cx="2744640" cy="2508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en00354_"/>
          <p:cNvPicPr/>
          <p:nvPr/>
        </p:nvPicPr>
        <p:blipFill>
          <a:blip r:embed="rId2"/>
          <a:stretch/>
        </p:blipFill>
        <p:spPr>
          <a:xfrm>
            <a:off x="762120" y="4267080"/>
            <a:ext cx="25905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fami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y dad lives in Sp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y sister is younger than me and is a pain in the ne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e have got three cats called Tommy fred and tib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e got our dog from the rescue centre because he had been abado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mp00640_"/>
          <p:cNvPicPr/>
          <p:nvPr/>
        </p:nvPicPr>
        <p:blipFill>
          <a:blip r:embed="rId1"/>
          <a:stretch/>
        </p:blipFill>
        <p:spPr>
          <a:xfrm>
            <a:off x="4800600" y="2895480"/>
            <a:ext cx="348300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bb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otb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pe01659_"/>
          <p:cNvPicPr/>
          <p:nvPr/>
        </p:nvPicPr>
        <p:blipFill>
          <a:blip r:embed="rId1"/>
          <a:stretch/>
        </p:blipFill>
        <p:spPr>
          <a:xfrm>
            <a:off x="2971800" y="1523880"/>
            <a:ext cx="530388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chool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Jokerman"/>
              </a:rPr>
              <a:t>I liked my last sch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Miss jones was great but mr best was horrid and he got cross when I talk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nard MT Condensed"/>
              </a:rPr>
              <a:t>I liked maths but not history or geograp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바탕"/>
              </a:rPr>
              <a:t>My school was near here, just round the cor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bd00146_"/>
          <p:cNvPicPr/>
          <p:nvPr/>
        </p:nvPicPr>
        <p:blipFill>
          <a:blip r:embed="rId1"/>
          <a:stretch/>
        </p:blipFill>
        <p:spPr>
          <a:xfrm>
            <a:off x="6172200" y="0"/>
            <a:ext cx="2743200" cy="2720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bs00554_"/>
          <p:cNvPicPr/>
          <p:nvPr/>
        </p:nvPicPr>
        <p:blipFill>
          <a:blip r:embed="rId2"/>
          <a:stretch/>
        </p:blipFill>
        <p:spPr>
          <a:xfrm>
            <a:off x="0" y="0"/>
            <a:ext cx="2514600" cy="2193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bs00559_"/>
          <p:cNvPicPr/>
          <p:nvPr/>
        </p:nvPicPr>
        <p:blipFill>
          <a:blip r:embed="rId3"/>
          <a:stretch/>
        </p:blipFill>
        <p:spPr>
          <a:xfrm>
            <a:off x="6019920" y="5505480"/>
            <a:ext cx="238572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10:06:14Z</dcterms:created>
  <dc:creator>peter</dc:creator>
  <dc:description/>
  <dc:language>en-US</dc:language>
  <cp:lastModifiedBy>BRYAN, C (SHS Teacher)</cp:lastModifiedBy>
  <dcterms:modified xsi:type="dcterms:W3CDTF">2020-09-30T15:32:43Z</dcterms:modified>
  <cp:revision>2</cp:revision>
  <dc:subject/>
  <dc:title>Pat’s Presentation</dc:title>
</cp:coreProperties>
</file>